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4256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14256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EC48-9693-4737-B382-08B23F2601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imation: Linien – Diagonal nach links o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reis: Zoom vergrößern – nach Animation abble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B53-EDD6-4670-843D-7C5CFD64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9B6-4C8E-45A4-82B6-68BD924D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B2E-18C7-443D-8B03-E14F7D05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C93-1D99-4F4A-BC3C-4DE50718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281-F870-48B8-82BA-7F079AD2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ECE-30FE-44CC-9AF8-539B8E53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A34-381D-4B3F-B98A-0671F3E9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020-5E49-47D1-A001-D68DDC37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F49-31ED-4D4D-A3A5-F6C19BA9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BDC-FEBA-4A91-B97D-F09A6AC0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05F-35F4-417E-B693-4B1A60F1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7C4-78C3-497B-8DBC-3F613167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E614-5192-4255-BF42-4B1B604FC5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Lage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karlsruhe" descr=""/>
          <p:cNvPicPr/>
          <p:nvPr/>
        </p:nvPicPr>
        <p:blipFill>
          <a:blip r:embed="rId1"/>
          <a:stretch/>
        </p:blipFill>
        <p:spPr>
          <a:xfrm>
            <a:off x="1162080" y="1079640"/>
            <a:ext cx="6819840" cy="469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 flipV="1">
            <a:off x="7238880" y="5079960"/>
            <a:ext cx="1526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6901920" y="4791240"/>
            <a:ext cx="335160" cy="282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81040" y="3254400"/>
            <a:ext cx="5435640" cy="2065320"/>
          </a:xfrm>
          <a:custGeom>
            <a:avLst/>
            <a:gdLst/>
            <a:ahLst/>
            <a:rect l="l" t="t" r="r" b="b"/>
            <a:pathLst>
              <a:path w="3424" h="1301">
                <a:moveTo>
                  <a:pt x="3424" y="960"/>
                </a:moveTo>
                <a:cubicBezTo>
                  <a:pt x="3385" y="945"/>
                  <a:pt x="3347" y="931"/>
                  <a:pt x="3318" y="927"/>
                </a:cubicBezTo>
                <a:cubicBezTo>
                  <a:pt x="3289" y="923"/>
                  <a:pt x="3331" y="920"/>
                  <a:pt x="3253" y="935"/>
                </a:cubicBezTo>
                <a:cubicBezTo>
                  <a:pt x="3175" y="950"/>
                  <a:pt x="2976" y="968"/>
                  <a:pt x="2848" y="1017"/>
                </a:cubicBezTo>
                <a:cubicBezTo>
                  <a:pt x="2720" y="1066"/>
                  <a:pt x="2598" y="1181"/>
                  <a:pt x="2482" y="1228"/>
                </a:cubicBezTo>
                <a:cubicBezTo>
                  <a:pt x="2366" y="1275"/>
                  <a:pt x="2262" y="1301"/>
                  <a:pt x="2150" y="1301"/>
                </a:cubicBezTo>
                <a:cubicBezTo>
                  <a:pt x="2038" y="1301"/>
                  <a:pt x="1900" y="1254"/>
                  <a:pt x="1809" y="1228"/>
                </a:cubicBezTo>
                <a:cubicBezTo>
                  <a:pt x="1718" y="1202"/>
                  <a:pt x="1671" y="1166"/>
                  <a:pt x="1606" y="1146"/>
                </a:cubicBezTo>
                <a:cubicBezTo>
                  <a:pt x="1541" y="1126"/>
                  <a:pt x="1481" y="1134"/>
                  <a:pt x="1420" y="1106"/>
                </a:cubicBezTo>
                <a:cubicBezTo>
                  <a:pt x="1359" y="1078"/>
                  <a:pt x="1283" y="1026"/>
                  <a:pt x="1241" y="976"/>
                </a:cubicBezTo>
                <a:cubicBezTo>
                  <a:pt x="1199" y="926"/>
                  <a:pt x="1207" y="869"/>
                  <a:pt x="1168" y="806"/>
                </a:cubicBezTo>
                <a:cubicBezTo>
                  <a:pt x="1129" y="743"/>
                  <a:pt x="1048" y="660"/>
                  <a:pt x="1006" y="595"/>
                </a:cubicBezTo>
                <a:cubicBezTo>
                  <a:pt x="964" y="530"/>
                  <a:pt x="951" y="471"/>
                  <a:pt x="917" y="416"/>
                </a:cubicBezTo>
                <a:cubicBezTo>
                  <a:pt x="883" y="361"/>
                  <a:pt x="846" y="309"/>
                  <a:pt x="803" y="262"/>
                </a:cubicBezTo>
                <a:cubicBezTo>
                  <a:pt x="760" y="215"/>
                  <a:pt x="714" y="171"/>
                  <a:pt x="657" y="132"/>
                </a:cubicBezTo>
                <a:cubicBezTo>
                  <a:pt x="600" y="93"/>
                  <a:pt x="528" y="0"/>
                  <a:pt x="462" y="27"/>
                </a:cubicBezTo>
                <a:cubicBezTo>
                  <a:pt x="396" y="54"/>
                  <a:pt x="311" y="263"/>
                  <a:pt x="260" y="295"/>
                </a:cubicBezTo>
                <a:cubicBezTo>
                  <a:pt x="209" y="327"/>
                  <a:pt x="197" y="240"/>
                  <a:pt x="154" y="222"/>
                </a:cubicBezTo>
                <a:cubicBezTo>
                  <a:pt x="111" y="204"/>
                  <a:pt x="26" y="194"/>
                  <a:pt x="0" y="18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481040" y="3360600"/>
            <a:ext cx="2556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9920" y="3206880"/>
            <a:ext cx="309600" cy="309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25520" y="3203640"/>
            <a:ext cx="309600" cy="309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24080" y="3205080"/>
            <a:ext cx="309600" cy="309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20840" y="3225960"/>
            <a:ext cx="309600" cy="309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7T14:07:40Z</dcterms:created>
  <dc:creator>Wolfgang Glasl</dc:creator>
  <dc:description/>
  <dc:language>en-US</dc:language>
  <cp:lastModifiedBy>Wolfgang Glasl</cp:lastModifiedBy>
  <dcterms:modified xsi:type="dcterms:W3CDTF">2001-05-29T05:23:20Z</dcterms:modified>
  <cp:revision>3</cp:revision>
  <dc:subject/>
  <dc:title>Lageplan</dc:title>
</cp:coreProperties>
</file>