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B34-FCEF-4836-85E6-021B2F09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4A5-C39F-45F3-A864-AC5918F5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CCEA-2084-47DB-A8A6-6AAFA6C0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69E-8CE5-41D6-AF22-454D5FDC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70FA-C542-486E-99A1-F2D0A4E1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A4F9-36A7-476F-B65C-A7054B3E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8118-F2E1-4D8D-B0EA-16174D68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9F40-E520-4DE3-BEDB-DA9DAA5E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629D-A7CC-4453-8103-F956E761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801F-828F-425A-938A-F1AA4D17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F321-9113-4E01-95D2-40E5DBE7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0CE-89D1-4CB1-9FC5-2283AD88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6D98-23B1-4FC0-B612-5714FCB4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75CD-0F8E-40D0-BD53-5A010A01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09D9-52E6-4094-BF52-8330A49C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92D3-E7FF-45AB-9660-A98999E2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5DDF-646D-4273-B37D-96738827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A39-4FD8-4165-89C9-F70BB9FC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53E-9C3D-42DA-90F1-062BAB47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087-EC55-450F-BE33-64B3616E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3F8-6A71-4D21-A6C2-F0648525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B30-FF8B-4FB9-A130-5BA29199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45D-A571-4FFB-959B-B8290C04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60BF-C109-45A3-8364-87016447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3624-8051-4A77-B140-726534E33EA4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8965-BB36-4E2B-8A10-18F09FAC210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evölkerungsentwicklung in der Bundesrepublik Deutschland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p:transition advTm="3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ff"/>
                </a:solidFill>
                <a:latin typeface="Times New Roman"/>
              </a:rPr>
              <a:t>Bevölkerung</a:t>
            </a:r>
            <a:br>
              <a:rPr sz="4400"/>
            </a:br>
            <a:r>
              <a:rPr b="0" lang="de-DE" sz="2000" spc="-1" strike="noStrike">
                <a:solidFill>
                  <a:srgbClr val="ff00ff"/>
                </a:solidFill>
                <a:latin typeface="Times New Roman"/>
              </a:rPr>
              <a:t>(in Mio)</a:t>
            </a:r>
            <a:endParaRPr b="0" lang="en-US" sz="20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182880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Bevölkerung nach Altersklasse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9528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08:42:27Z</dcterms:created>
  <dc:creator>Wolfgang Glasl</dc:creator>
  <dc:description/>
  <dc:language>en-US</dc:language>
  <cp:lastModifiedBy>Wolfgang Glasl</cp:lastModifiedBy>
  <dcterms:modified xsi:type="dcterms:W3CDTF">1999-07-06T10:20:58Z</dcterms:modified>
  <cp:revision>4</cp:revision>
  <dc:subject/>
  <dc:title>Bevölkerungsentwicklung in der Bundesrepublik Deutschland</dc:title>
</cp:coreProperties>
</file>