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CFD-D3E9-4B90-829A-52AD9FFC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F2D-50E4-4937-B1DA-D4431053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DE9-26E0-4B05-8174-307750A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353-EAFD-46F8-8BD7-1F5423BE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AFA9-5E1A-46F9-920A-38BBE5AB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72B5-CC0D-48CA-934D-1C882935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572-5C13-4CB9-B97F-10A8B57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91A-73D0-4798-AA85-93B747B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485-3746-4207-8387-8F49379F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FF6-21DD-4246-A3E5-248FEDA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050-7378-436C-94EB-5163F58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A0E-C6B3-499F-B543-343A2F8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C3CB-4A7E-4946-A936-294E7B6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350D-B52E-4BEC-81D4-DF8679DB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1BE4-C3FB-4F69-9FBC-4E56B61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583B-954B-4373-BF5A-0E4424F0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EBE5-7939-45C4-B577-ED57AE1B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39E-E6DE-41F3-9029-BB1512CC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461-C571-489D-85CF-FCFD7B0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E79-D490-4EF7-B998-4DDAB90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611-C628-479C-97F3-A2F4B47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E76-037E-44FF-8B1A-69C1E21D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9D1-4D79-427D-9B86-C330E55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372-A4D2-4926-B0DA-74BE30C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9E1-9614-49A2-9784-4CA4FDBACD73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71C-BD14-47D1-B03D-02188DF5095A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etriebliches Vorschlagwe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76240" y="2133720"/>
          <a:ext cx="758196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2133720"/>
                    <a:ext cx="758196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xcel-Tabel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060640"/>
          <a:ext cx="7696080" cy="41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60640"/>
                    <a:ext cx="769608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03:07:32Z</dcterms:created>
  <dc:creator>Wolfgang Glasl</dc:creator>
  <dc:description/>
  <dc:language>en-US</dc:language>
  <cp:lastModifiedBy>Wolfgang Glasl</cp:lastModifiedBy>
  <dcterms:modified xsi:type="dcterms:W3CDTF">2000-06-16T03:57:04Z</dcterms:modified>
  <cp:revision>1</cp:revision>
  <dc:subject/>
  <dc:title>Betriebliches Vorschlagwesen</dc:title>
</cp:coreProperties>
</file>