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E2D7-A7B9-4BAA-B62F-D7B5A72EF3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zeugen Sie den Kreis, beschriften Sie ihn, und verankern Sie die Beschriftung im Kreis (unten zentrie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ein ClipArt in die Folie ein, verkleinern Sie es, und ziehen das ClipArt in den 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ssen Sie den Kreis und das ClipArt zu einer Objektgruppe zusammen, und positionieren es an der gewünschten S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gänzen Sie die weiteren Zeichenobjek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F2C-7B35-4B50-A712-68DACAFA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471-3F1D-47CD-9606-5CD8FDDB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328-5BDF-4AC1-A7BB-0CFA46FC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048-534E-41A7-99DE-8EE28BB4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DD8-93F7-4290-B4E6-E344A235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A5B-A5CD-4050-9598-43F5A7B7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CF8-E598-442A-B77A-A695505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042-B8CE-43FA-A8B0-87CA362C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64D-AAAD-44D1-8A9A-558F055C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122-A613-4D0B-A2F2-AB052D8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793-6D81-4F8E-A01F-8DB6BD8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A2E-1F43-4A50-B74C-A473F6D9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A232-36BF-4081-AD6A-0A5D6ED023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2057400"/>
            <a:ext cx="2057400" cy="2057400"/>
            <a:chOff x="838080" y="2057400"/>
            <a:chExt cx="2057400" cy="2057400"/>
          </a:xfrm>
        </p:grpSpPr>
        <p:pic>
          <p:nvPicPr>
            <p:cNvPr id="49" name="nachtan1" descr="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168264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8080" y="2057400"/>
              <a:ext cx="20574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</a:rPr>
                <a:t>Aktiv-Schu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o finden Sie unser Stammhaus in Würzbu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42900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434340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952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dustriegebie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ng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095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nen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05120" y="6324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ürn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477120" y="22856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d Neu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7T18:55:48Z</dcterms:created>
  <dc:creator>Wolfgang Glasl</dc:creator>
  <dc:description/>
  <dc:language>en-US</dc:language>
  <cp:lastModifiedBy>Wolfgang Glasl</cp:lastModifiedBy>
  <dcterms:modified xsi:type="dcterms:W3CDTF">2000-06-17T19:09:10Z</dcterms:modified>
  <cp:revision>2</cp:revision>
  <dc:subject/>
  <dc:title>So finden Sie unser Stammhaus in Würzburg</dc:title>
</cp:coreProperties>
</file>