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7CE-05D1-454B-8D1E-15BE60A1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427-C084-474A-8825-E9BD519F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A3A-468C-459A-9C83-FF8A274D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7B8-5C6E-4487-BF64-4C214EBF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474-89E1-433A-8A0B-C3485145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155-82B0-44E7-B1BD-7BD6D089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6CD-B552-4811-A47A-ADA5B59E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A6B-2793-4E2E-B3FA-29C60F8A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4B6-2C2A-4883-964D-469FD122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AAE-A480-4ECC-A996-97FA4C42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784-E0FB-4C80-89FE-BD429AA8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A48-119A-44F9-A2E8-09CCBC20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3D47-8AA6-4B5D-9C8C-AB56A7168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6094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 bringen Ihre Firma 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" y="143820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4290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ich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1148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ompet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46483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ff00"/>
                </a:solidFill>
                <a:uFillTx/>
                <a:latin typeface="Arial"/>
              </a:rPr>
              <a:t>Xlink</a:t>
            </a:r>
            <a:r>
              <a:rPr b="1" lang="de-DE" sz="4400" spc="-1" strike="noStrike">
                <a:solidFill>
                  <a:srgbClr val="ffff00"/>
                </a:solidFill>
                <a:latin typeface="Arial"/>
              </a:rPr>
              <a:t>-P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1676520"/>
            <a:ext cx="61722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ternet.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18920" y="485748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re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19280" y="2158920"/>
            <a:ext cx="843912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Arial Black"/>
              </a:rPr>
              <a:t>www.freinet.de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105520"/>
            <a:ext cx="68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25780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formationsdien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47920" y="5029200"/>
            <a:ext cx="18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advTm="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6:13:12Z</dcterms:created>
  <dc:creator>Wolfgang Glasl</dc:creator>
  <dc:description/>
  <dc:language>en-US</dc:language>
  <cp:lastModifiedBy>Wolfgang Glasl</cp:lastModifiedBy>
  <dcterms:modified xsi:type="dcterms:W3CDTF">1999-09-14T08:05:19Z</dcterms:modified>
  <cp:revision>2</cp:revision>
  <dc:subject/>
  <dc:title>Internet.</dc:title>
</cp:coreProperties>
</file>