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9142560"/>
            <a:ext cx="2971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5840" y="9142560"/>
            <a:ext cx="2971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2AFC-62DD-47C0-84DC-48AB2D889EC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itelanimation: blenden 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ext: Rollen von links, zeichenweise (oder Schreibmasch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lipArt: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toform schattiert, nach Animation grü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toform: roter Kreis Animation von links, abble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lber Kreis: Animation erscheinen, abble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rüner Kreis: Animation erscheinen, nicht abble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to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laues Feld: Animation: Rollen von o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ote Balken: Animation: Dehnen von links, nach Animation schwar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lipart: Brill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imation: Zoom von Mi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lipart: Auto9.w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imation Text von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lipArt: Blutdr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imation: Zoom vergröß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lipArt: Abschlpw.w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ßerhalb positioni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imation: Langsam von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rafik: BIO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imation: Zoom von Mi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inzelne Linien, Animation: Deh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lipArt: Wecker.w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imation: Zoom von Mi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lipart: Ste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imation: Zoom von Mi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73C-08CB-48F3-8A53-EA30B3EB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F6D-FA0E-4C3C-8B72-C2968CC8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037-F2B0-4CE7-A29E-A0F9E207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8AD-3220-4666-846E-483A4BBD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39CD8-AC3C-4726-983F-210A6DFE27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7D03F-AEA2-46ED-89B1-61AEDE91C4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26EB7-F1B7-4945-97C0-5F228974C0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4C8F0-BA18-4E73-A7F0-3D6A23AC8E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6377C-EC40-4E7E-9C27-4B37AD9FEC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B8E0E-F663-49D7-AEE2-AD5A5C7D6A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02425-BAB3-4AE0-896E-6E675FB7AF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7E0-7D0B-487F-ACFD-936ED07C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9E630-19E4-4844-99D9-E867C95A90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D02E9-D006-4851-A2A5-9C78F62DD2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02891-CB5D-4123-A260-5FA678EEA1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FD39C-5E41-4793-83DC-6D21B80341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64923-D558-4A86-B518-A229F52B17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3FE-4D69-48A7-9C33-84144701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CF2-B279-41A2-9108-1188E809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9E6-99AD-406D-88ED-BB59E243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A71-1600-4575-840E-29B2BC53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D78-7B0E-4508-95A3-491D5871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AB7-68FA-463B-B594-72122143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9D5-225F-4D39-A65F-947B5514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21C1-E194-4D9E-9694-07BBAB92ED1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>
            <a:hlinkClick r:id="" action="ppaction://hlinkshowjump?jump=nextslide"/>
          </p:cNvPr>
          <p:cNvSpPr/>
          <p:nvPr/>
        </p:nvSpPr>
        <p:spPr>
          <a:xfrm>
            <a:off x="1676520" y="632448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1066680" y="6324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4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4ABD-3E86-43DF-AE18-4F4E7B96E4B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380880" y="62485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8380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Startprozess des P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0948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m Einschalten bis zur Windows-Oberfläc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BS00580_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11804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0" y="2743200"/>
            <a:ext cx="457200" cy="2362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743200"/>
            <a:ext cx="457200" cy="2362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2743200"/>
            <a:ext cx="457200" cy="2362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2743200"/>
            <a:ext cx="457200" cy="2362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2743200"/>
            <a:ext cx="457200" cy="2362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2743200"/>
            <a:ext cx="457200" cy="2362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6858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er Arbeitsspeicher wird geprüf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14400" y="7621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ie Tastatur und die Laufwerke werden geprüf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2004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3200400"/>
            <a:ext cx="457200" cy="4572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66680" y="6858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ie bisherigen Ergebnisse werden mit den Einträgen im CMOS verglic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2438280"/>
            <a:ext cx="3047760" cy="3810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2819520"/>
            <a:ext cx="23623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3276720"/>
            <a:ext cx="23623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3809880"/>
            <a:ext cx="23623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4267080"/>
            <a:ext cx="23623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4724280"/>
            <a:ext cx="23623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5181480"/>
            <a:ext cx="23623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5638680"/>
            <a:ext cx="23623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66680" y="68580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Auf der Festplatte, CD-ROM oder der Diskette wird nach dem Boot-Record gesuc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brille1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360360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609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Nach dem Laden der Systemdateien ist der Bootprozess abgeschloss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1295280"/>
            <a:ext cx="74678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as Starten eines PC ist ein recht komplexer Vorga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er PC muss sich sozusagen erst mal warmlaufen, ähnlich wie bei einem Auto, damit er dann ordentlich arbeiten kan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auto9" descr=""/>
          <p:cNvPicPr/>
          <p:nvPr/>
        </p:nvPicPr>
        <p:blipFill>
          <a:blip r:embed="rId1"/>
          <a:stretch/>
        </p:blipFill>
        <p:spPr>
          <a:xfrm>
            <a:off x="6858000" y="5105520"/>
            <a:ext cx="1523880" cy="5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90720" y="914400"/>
            <a:ext cx="72388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anach ist der PC betriebsbere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Jetzt können auch andere Anwenderprogramme gestartet werd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380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er Startprozess beinhaltet im wesentlichen zwei Ablauf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1337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er PC prüft in einem Selbsttest, ob die Hardware-Komponenten in Ordnung s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blutdrck" descr=""/>
          <p:cNvPicPr/>
          <p:nvPr/>
        </p:nvPicPr>
        <p:blipFill>
          <a:blip r:embed="rId1"/>
          <a:stretch/>
        </p:blipFill>
        <p:spPr>
          <a:xfrm>
            <a:off x="3208320" y="2057400"/>
            <a:ext cx="272736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426708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anach wird das Betriebssystem geladen, entweder von der Festplatte oder einer Boot-Disket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1337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er PC prüft in einem Selbsttest, ob die Hardware-Komponenten in Ordnung s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380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er Startprozess beinhaltet im wesentlichen zwei Ablauf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abschlpw" descr=""/>
          <p:cNvPicPr/>
          <p:nvPr/>
        </p:nvPicPr>
        <p:blipFill>
          <a:blip r:embed="rId1"/>
          <a:stretch/>
        </p:blipFill>
        <p:spPr>
          <a:xfrm>
            <a:off x="9448920" y="5562720"/>
            <a:ext cx="2235240" cy="68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Der Boot-Prozess im Deta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2133720"/>
            <a:ext cx="76201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Sie haben den Netzschalter betätigt, der Stromstoss ist quasi der Wecker für Ihren P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Jetzt übernimmt der BIOS-Chip das Komman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BIOS" descr=""/>
          <p:cNvPicPr/>
          <p:nvPr/>
        </p:nvPicPr>
        <p:blipFill>
          <a:blip r:embed="rId1"/>
          <a:stretch/>
        </p:blipFill>
        <p:spPr>
          <a:xfrm>
            <a:off x="5181480" y="4800600"/>
            <a:ext cx="2762280" cy="12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66680" y="7621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Zunächst einmal wird der Systembus (das Leitungswerk des PC) geprüf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4382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4382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3809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31237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3124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31240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8098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029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5029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3341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5334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5638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5257800"/>
            <a:ext cx="685800" cy="838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15000" y="5638680"/>
            <a:ext cx="1447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563868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685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ann ist die Uhr an der Rei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wcker" descr=""/>
          <p:cNvPicPr/>
          <p:nvPr/>
        </p:nvPicPr>
        <p:blipFill>
          <a:blip r:embed="rId1"/>
          <a:stretch/>
        </p:blipFill>
        <p:spPr>
          <a:xfrm>
            <a:off x="3094200" y="1981080"/>
            <a:ext cx="295416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68580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ie Grafikkarte wird geprüft, und deren BIOS in den Arbeitsspeicher gela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cmpsteck" descr=""/>
          <p:cNvPicPr/>
          <p:nvPr/>
        </p:nvPicPr>
        <p:blipFill>
          <a:blip r:embed="rId1"/>
          <a:stretch/>
        </p:blipFill>
        <p:spPr>
          <a:xfrm>
            <a:off x="2284560" y="2666880"/>
            <a:ext cx="4573440" cy="303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5T18:43:27Z</dcterms:created>
  <dc:creator>Wolfgang Glasl</dc:creator>
  <dc:description/>
  <dc:language>en-US</dc:language>
  <cp:lastModifiedBy>Wolfgang Glasl</cp:lastModifiedBy>
  <dcterms:modified xsi:type="dcterms:W3CDTF">2001-05-26T16:02:53Z</dcterms:modified>
  <cp:revision>15</cp:revision>
  <dc:subject/>
  <dc:title>Startprozess des PCs</dc:title>
</cp:coreProperties>
</file>