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Forte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4256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14256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9C41-FFB5-49CC-B6F6-D2714530F8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ntergrundbild: C:\Programme\MS Publisher\ClipArt\pub40\6003.gif oder 9192.g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rift: Forte, 44, ge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toform Stern: Füllfarbe Hintergr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twurfsvorlage: Ba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twurfsvorlage Ba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und Glie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rg +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mit Tabelle (3 Spalten, 10 Zeil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ymbolleiste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b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erste Zeile grün eingefärb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0.600 markieren, Farbeimer, Fülleffekte zweifarbig von rot  bis gelb, aus der Mitte (ganz un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Excel-Tabelle (Einfügen Objekt MS Excel-Diagram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mschalten in Excel auf Tabelle, dort die Wert eintr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ubbäum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adelhölze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räuche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fügen Objekt MS-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 doppelklic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fügen Externe 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belle Waldbestand.xls anklic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rg + M – Organigra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füge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ips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94F-8C08-41DE-9007-E16C257C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D6E-F8F4-45C5-878B-1847F71F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540-38CA-47CA-B0A6-32EB4695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517-07FB-417F-AD35-F6456661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C7D5-6319-480B-9F9C-CF33617D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888C-3906-4C30-9D3F-EE8557B6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2EFE-5360-44F9-BFAA-41D4FF67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6F30-A028-4392-87C3-960BF788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2BCE-D043-4778-9314-2D0ACBAE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6D84-EC57-400E-8F9C-40587200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146C-AF94-4B47-AF59-CA599734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CF4-44F7-4432-BD00-A8EAA52B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38BB-D7A4-41AB-BC5D-CE5C255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74E9-AA20-4F71-8CDE-63B2569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4B14-B942-4B98-AD55-EFF6A1CC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4AE8-5232-431B-9C9D-C5ECE94E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BE6E-229F-47DE-BEF1-1F51E273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06D-D857-4A16-8E70-9E4D549E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F69-41F3-4A1B-9A7E-FD287707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300-0286-4430-A3CE-E0EDE80D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4DB-F6A4-42B7-8E6A-79330236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902-33F4-46CC-B2B9-4384CB3E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169-E0AD-49DC-AEA1-A04C265D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EA0-DEDE-4188-8902-9B823644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Forte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7CBA-02E1-4CF7-B092-6FEF3C09E5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Forte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8865-1DE3-49CA-9E68-7870862C08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228600"/>
            <a:ext cx="5639040" cy="4419720"/>
          </a:xfrm>
          <a:prstGeom prst="irregularSeal1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21573000">
            <a:off x="685800" y="168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Forte"/>
              </a:rPr>
              <a:t>Feld, Wald</a:t>
            </a: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Forte"/>
              </a:rPr>
              <a:t>und Wiese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560" y="4419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andschaftspflege, Natur- und Umweltschu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Forte"/>
              </a:rPr>
              <a:t>Aufgaben und Ziele der Naturfreunde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der Naturgüter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erung von Naturgütern, sowie der Vielfalt von Natur und Land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der Arten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halt seltener Tier- und Pflanzenarten und ihrer Lebensgemein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von Biotopen und Ökosystemen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beugung und Verminderung von Umweltschä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74678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Forte"/>
              </a:rPr>
              <a:t>Bestand wildlebender Pflanzen und Tierarten</a:t>
            </a:r>
            <a:endParaRPr b="0" lang="en-US" sz="2800" spc="-1" strike="noStrike">
              <a:solidFill>
                <a:srgbClr val="003300"/>
              </a:solidFill>
              <a:latin typeface="Forte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295280"/>
          <a:ext cx="7570800" cy="5175360"/>
        </p:xfrm>
        <a:graphic>
          <a:graphicData uri="http://schemas.openxmlformats.org/drawingml/2006/table">
            <a:tbl>
              <a:tblPr/>
              <a:tblGrid>
                <a:gridCol w="2541600"/>
                <a:gridCol w="251460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nzah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on gefährd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äugeti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ö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tili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i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rbell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ütenpflan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osfl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ßpil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Forte"/>
              </a:rPr>
              <a:t>Bestand an Pflanzen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17600" y="2068560"/>
          <a:ext cx="7278480" cy="41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2068560"/>
                    <a:ext cx="72784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-291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Forte"/>
              </a:rPr>
              <a:t>Waldbestand in Deutschland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295280"/>
          <a:ext cx="72388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2388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Forte"/>
              </a:rPr>
              <a:t>Unsere Organisation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96880" y="1981080"/>
          <a:ext cx="6807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981080"/>
                    <a:ext cx="6807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G00176_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253368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AG00160_" descr=""/>
          <p:cNvPicPr/>
          <p:nvPr/>
        </p:nvPicPr>
        <p:blipFill>
          <a:blip r:embed="rId2"/>
          <a:stretch/>
        </p:blipFill>
        <p:spPr>
          <a:xfrm>
            <a:off x="4056120" y="990720"/>
            <a:ext cx="1468440" cy="1496880"/>
          </a:xfrm>
          <a:prstGeom prst="rect">
            <a:avLst/>
          </a:prstGeom>
          <a:ln w="0">
            <a:noFill/>
          </a:ln>
        </p:spPr>
      </p:pic>
      <p:pic>
        <p:nvPicPr>
          <p:cNvPr id="109" name="AG00170_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34290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11:43:54Z</dcterms:created>
  <dc:creator>Wolfgang Glasl</dc:creator>
  <dc:description/>
  <dc:language>en-US</dc:language>
  <cp:lastModifiedBy>Wolfgang Glasl</cp:lastModifiedBy>
  <dcterms:modified xsi:type="dcterms:W3CDTF">2001-05-25T14:37:10Z</dcterms:modified>
  <cp:revision>15</cp:revision>
  <dc:subject/>
  <dc:title>Feld, Wald und Wiese</dc:title>
</cp:coreProperties>
</file>