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43A8-9997-4388-BB08-48956ABCB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4228-0CA7-4203-BA16-4447BFD5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DDE2-0530-47DD-929D-21A666638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B611-FF09-4A89-995F-4165692BC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5FCE-B827-4F3C-9803-1807675A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073E-851A-416C-955E-09334F4D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123B-C8F0-478B-AF3C-336CFB14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3333-1047-4C4F-A8D3-C5060487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7311-6C47-418C-82CA-DE447C2B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625C-8B78-4090-8CF1-8F9F39BA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F796-C661-48DA-80D1-F098C6A0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401C-FCEB-4224-A71F-D67D225A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9D72-C890-407C-AC19-B40DC44A676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5029200"/>
            <a:ext cx="182880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29400" y="5029200"/>
            <a:ext cx="182880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629400" y="685800"/>
            <a:ext cx="182880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685800"/>
            <a:ext cx="182880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629400" y="5029200"/>
            <a:ext cx="182880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629400" y="5029200"/>
            <a:ext cx="182880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53080" y="6095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8200" y="533520"/>
            <a:ext cx="6858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0"/>
            <a:ext cx="2133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5T18:20:42Z</dcterms:created>
  <dc:creator>Wolfgang Glasl</dc:creator>
  <dc:description/>
  <dc:language>en-US</dc:language>
  <cp:lastModifiedBy>Wolfgang Glasl</cp:lastModifiedBy>
  <dcterms:modified xsi:type="dcterms:W3CDTF">2000-06-15T18:34:59Z</dcterms:modified>
  <cp:revision>1</cp:revision>
  <dc:subject/>
  <dc:title>PowerPoint-Präsentation</dc:title>
</cp:coreProperties>
</file>