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FC64-3741-40B5-9DF8-A7EE8092FFB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eichnen Sie ein Rechteck (Füllfarbe Muster Backste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eichnen Sie darunter einen Kreis (Farbe weiss, Linienfarbe schwar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 die untere Hälfte des Kreises ziehen Sie ein Rechteck (Farbe wei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ügen Sie die ClipArts ein (Fahrzeuge) und positionieren Sie diese entsprechend der Vor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3B9-6817-423F-9E06-D0EA7108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046-E9B5-40E3-B0FD-9A65E3F0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7E5-84FD-452B-B03B-42C9F203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90E-9A11-47FA-871D-77CA44CE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6CE-4EC6-4125-AA52-5EC956F1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DA0-AF21-45E8-8A2D-5F9E4EA9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DCA-866F-4D2A-9A4E-E23B4246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552-44D2-424E-AB70-4AFE1AC1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7C6-D592-4F22-BC16-803D1A94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D6B-3238-4567-9A9E-20EDBCB8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B48-CE48-4EF9-89B0-038821D2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025-5270-476F-BB1D-6A2C2C1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B8D-BE40-4630-A4DD-B5D07E1D24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057400" y="2514600"/>
            <a:ext cx="5181480" cy="5486400"/>
            <a:chOff x="2057400" y="2514600"/>
            <a:chExt cx="5181480" cy="5486400"/>
          </a:xfrm>
        </p:grpSpPr>
        <p:sp>
          <p:nvSpPr>
            <p:cNvPr id="49" name=""/>
            <p:cNvSpPr/>
            <p:nvPr/>
          </p:nvSpPr>
          <p:spPr>
            <a:xfrm>
              <a:off x="2057400" y="2514600"/>
              <a:ext cx="50292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90920" y="3276720"/>
              <a:ext cx="3962160" cy="457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95560" y="5562720"/>
              <a:ext cx="514332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TN00561_" descr=""/>
          <p:cNvPicPr/>
          <p:nvPr/>
        </p:nvPicPr>
        <p:blipFill>
          <a:blip r:embed="rId2"/>
          <a:stretch/>
        </p:blipFill>
        <p:spPr>
          <a:xfrm>
            <a:off x="3124080" y="3429000"/>
            <a:ext cx="3641760" cy="2771640"/>
          </a:xfrm>
          <a:prstGeom prst="rect">
            <a:avLst/>
          </a:prstGeom>
          <a:ln w="0">
            <a:noFill/>
          </a:ln>
        </p:spPr>
      </p:pic>
      <p:pic>
        <p:nvPicPr>
          <p:cNvPr id="53" name="TN00607A" descr=""/>
          <p:cNvPicPr/>
          <p:nvPr/>
        </p:nvPicPr>
        <p:blipFill>
          <a:blip r:embed="rId3"/>
          <a:stretch/>
        </p:blipFill>
        <p:spPr>
          <a:xfrm>
            <a:off x="-4800600" y="6024600"/>
            <a:ext cx="33336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7T19:09:52Z</dcterms:created>
  <dc:creator>Wolfgang Glasl</dc:creator>
  <dc:description/>
  <dc:language>en-US</dc:language>
  <cp:lastModifiedBy>Wolfgang Glasl</cp:lastModifiedBy>
  <dcterms:modified xsi:type="dcterms:W3CDTF">2000-06-17T19:29:18Z</dcterms:modified>
  <cp:revision>3</cp:revision>
  <dc:subject/>
  <dc:title>PowerPoint-Präsentation</dc:title>
</cp:coreProperties>
</file>