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092-7E1A-45FF-9B9A-C995191F90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zeugen Sie das WordArt-Emblem wie in der Abbildung, drehen Sie das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zeugen Sie die drei Sterne mit Schatten und richten Sie diese vertikal zentriert 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stellen Sie den Schmuckrah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124-C76A-4353-B75C-3C4C4F71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8FF-F2E7-484C-885F-B7356DD1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023-13A9-465D-826A-69353F11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11D-915D-463F-B252-7E763B20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D80-953C-4FFE-9E91-38A4782C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CD8-1C05-4F02-9367-3292F7FA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BEC-EE50-4AF1-9A02-84B617B3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8EC-0537-4DFC-91BF-F2505B2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3E3-AC50-47EC-85CA-5C1E6A6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5A4-0187-492D-A6DA-6D273FA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CF5-584A-4ED3-96C9-FA66B3E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560-E200-431F-B074-08A013A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540C-670B-454F-A6B3-6CFCA154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4953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ktiv-Schu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19781400">
            <a:off x="838080" y="2666520"/>
            <a:ext cx="3200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Jubilä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125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Jah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743880" y="2286000"/>
            <a:ext cx="83808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7560" y="3352680"/>
            <a:ext cx="9907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4572000"/>
            <a:ext cx="1219320" cy="10666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ktiv-Schuh Gm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1600" y="1919160"/>
          <a:ext cx="820080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919160"/>
                    <a:ext cx="820080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4:42:19Z</dcterms:created>
  <dc:creator>Wolfgang Glasl</dc:creator>
  <dc:description/>
  <dc:language>en-US</dc:language>
  <cp:lastModifiedBy>Wolfgang Glasl</cp:lastModifiedBy>
  <dcterms:modified xsi:type="dcterms:W3CDTF">2001-02-15T05:31:38Z</dcterms:modified>
  <cp:revision>5</cp:revision>
  <dc:subject/>
  <dc:title>Aktiv-Schuh</dc:title>
</cp:coreProperties>
</file>