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099A4-2AD0-4477-9340-C24143334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07472-367B-46EB-9047-1808C75ED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76711-D786-4371-A434-5E657AFD0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EECEF-4B91-42EA-B17C-E81455CDF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6A5FB-B6CC-4571-A36C-8631CC8B1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D4731-E8D0-4812-B43E-6E866E004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BD7A0-C249-4799-9874-8FFE26E68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9F18B-B785-4DFD-82F1-291DF973B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19AA2-7F9F-4761-BF79-38AF5B052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FD77E-58CB-4D95-93F2-19777AC32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B17D8-92CD-4A46-AB70-8FDD11B8D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9060B-E2A3-4C0D-93D8-3A18CA2E5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9E3BC-F189-4875-994D-DB0E5E4750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Setup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4114800" y="5638680"/>
            <a:ext cx="502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Times New Roman"/>
              </a:rPr>
              <a:t>© Wolfgang Glasl, Doz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Window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762120" indent="-3812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Neue einheitliche Benutzeroberflä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762120" indent="-3812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Lange Namen für Ordner und Dateien bis zu 255 Zeich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762120" indent="-3812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Leistungsfähige 32-Bit Speicherverwaltung und verbessertes Multitask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762120" indent="-3812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ntegration von Netzwerkkomponenten in die Benutzeroberflä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762120" indent="-3812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lug&amp;Play-Funktionalität, die Hardware-Komponenenten selbständig erkennt und einricht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762120" indent="-3812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Kompatibilität zu DOS und Windows 3.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762120" indent="-3812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rheblich vereinfachte Install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1143000"/>
            <a:ext cx="792468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Setup" descr=""/>
          <p:cNvPicPr/>
          <p:nvPr/>
        </p:nvPicPr>
        <p:blipFill>
          <a:blip r:embed="rId1"/>
          <a:stretch/>
        </p:blipFill>
        <p:spPr>
          <a:xfrm>
            <a:off x="7315200" y="228600"/>
            <a:ext cx="1143000" cy="8571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14T09:10:55Z</dcterms:created>
  <dc:creator>Wolfgang Glasl</dc:creator>
  <dc:description/>
  <dc:language>en-US</dc:language>
  <cp:lastModifiedBy>Wolfgang Glasl</cp:lastModifiedBy>
  <dcterms:modified xsi:type="dcterms:W3CDTF">2000-06-17T17:17:30Z</dcterms:modified>
  <cp:revision>9</cp:revision>
  <dc:subject/>
  <dc:title>Kein Folientitel</dc:title>
</cp:coreProperties>
</file>