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4EFB-F256-4489-BB37-B5DFDDE1B0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stellen Sie die Folie 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zeugen Sie einen Kreis, und beschriften Sie ihn (r.M. Text bearbei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sehen Sie das Objekt mit den gewünschten Formatierungen, jedoch nicht mit Schat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zeugen Sie ein abgerundetes Rechteck und duplizieren Sie es zweimal (Strg+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iehen Sie die Rechtecke in die gewünschte Position, und beschriften Sie jedes Recht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zeugen Sie die drei Pfe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sehen Sie das Kreisobjekt mit einem Schat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ssen Sie die Objekte zu einer Objektgruppe zusammen (Objekte markieren mit der Maus (Shift + Klicken), r.M. Gruppier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AC2-0164-40DE-915D-DC7938DD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2F4-A589-462A-8688-E300EE0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386-5845-44F1-91F4-7C11457B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6F6-5CAC-4CE3-A7B2-57317A4A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397-6D46-4A8B-83AB-DF36BEB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DF7-AFF2-4A29-B53C-BF67F2D3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2C1-BA0D-470F-9D06-F1DAF98A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5C2-72EB-4BF5-9BA5-A028C9D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4B4-E4BB-4F66-84E4-9F3FD7D1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D3F-2176-418E-B1F5-7E8EB1C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E62-A212-40AD-97F9-2072794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06C-641C-43DB-B0BF-F357427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AC9A-6D10-4937-AA2B-42D8F031F6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bsatzmark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9440" y="342900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satz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057400"/>
            <a:ext cx="16761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f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5257800"/>
            <a:ext cx="16761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gebot d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k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334120"/>
            <a:ext cx="16765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gen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743200" y="4800600"/>
            <a:ext cx="9144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486040" y="4724280"/>
            <a:ext cx="10666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7T18:45:44Z</dcterms:created>
  <dc:creator>Wolfgang Glasl</dc:creator>
  <dc:description/>
  <dc:language>en-US</dc:language>
  <cp:lastModifiedBy>Wolfgang Glasl</cp:lastModifiedBy>
  <dcterms:modified xsi:type="dcterms:W3CDTF">2000-06-17T18:55:19Z</dcterms:modified>
  <cp:revision>2</cp:revision>
  <dc:subject/>
  <dc:title>Absatzmarkt</dc:title>
</cp:coreProperties>
</file>