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0A1-3022-4F30-B469-055B72F4B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44C8-1277-4507-8685-171E307C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3B25-D18D-4435-9316-A8DA39EB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71A7-1F03-4179-8512-51000978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B1F-B655-46C2-B839-8868DC4E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D4D7-9FBB-4BA2-B8AD-B588A17A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CC37-C6B6-4E1B-A1DE-19FDF1CD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5AFB-76B5-41BC-AE35-F3AD2F2B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3602-24A5-452F-9F74-30BA8A81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89DF-EF7F-47CB-8558-04896607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D90C-2EBF-4E6B-A7DE-CFE3CC15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EBA0-5AD0-4520-9F6B-A0F7311E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D0A3-64A3-42CC-A3B3-CF286334C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200" spc="-1" strike="noStrike">
                <a:solidFill>
                  <a:srgbClr val="cc9900"/>
                </a:solidFill>
                <a:latin typeface="Braggadocio"/>
              </a:rPr>
              <a:t>Doggy</a:t>
            </a:r>
            <a:br>
              <a:rPr sz="7200"/>
            </a:br>
            <a:r>
              <a:rPr b="0" lang="de-DE" sz="7200" spc="-1" strike="noStrike">
                <a:solidFill>
                  <a:srgbClr val="cc9900"/>
                </a:solidFill>
                <a:latin typeface="Braggadocio"/>
              </a:rPr>
              <a:t>Servi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38480" y="601956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© Carola Mü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685800"/>
            <a:ext cx="5105520" cy="4724280"/>
          </a:xfrm>
          <a:prstGeom prst="ellipse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Unser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9900"/>
                </a:solidFill>
                <a:latin typeface="Times New Roman"/>
              </a:rPr>
              <a:t>Einkauf von probiotischem Hundefu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9900"/>
                </a:solidFill>
                <a:latin typeface="Times New Roman"/>
              </a:rPr>
              <a:t>Ausführen zu fest vereinbarten Termi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9900"/>
                </a:solidFill>
                <a:latin typeface="Times New Roman"/>
              </a:rPr>
              <a:t>Fellpflege von ausgebildeten Curling-Spezialis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9900"/>
                </a:solidFill>
                <a:latin typeface="Times New Roman"/>
              </a:rPr>
              <a:t>Fitneßtraining mit modernen Gerä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9900"/>
                </a:solidFill>
                <a:latin typeface="Times New Roman"/>
              </a:rPr>
              <a:t>Ganzkörperma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9900"/>
                </a:solidFill>
                <a:latin typeface="Times New Roman"/>
              </a:rPr>
              <a:t>Ökologische Kotentsorg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553080" y="5335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9900"/>
                </a:solidFill>
                <a:latin typeface="Braggadocio"/>
              </a:rPr>
              <a:t>Doggy</a:t>
            </a:r>
            <a:br>
              <a:rPr sz="2000"/>
            </a:br>
            <a:r>
              <a:rPr b="0" lang="de-DE" sz="2000" spc="-1" strike="noStrike">
                <a:solidFill>
                  <a:srgbClr val="cc9900"/>
                </a:solidFill>
                <a:latin typeface="Braggadocio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81680" y="380880"/>
            <a:ext cx="1676520" cy="106704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1600200"/>
            <a:ext cx="72392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Weitere Informationen erhalten Sie bei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9900"/>
                </a:solidFill>
                <a:latin typeface="Arial"/>
              </a:rPr>
              <a:t>Doggy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9900"/>
                </a:solidFill>
                <a:latin typeface="Arial"/>
              </a:rPr>
              <a:t>Auf dem Hund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9900"/>
                </a:solidFill>
                <a:latin typeface="Arial"/>
              </a:rPr>
              <a:t>38452 Brunsbüt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9900"/>
                </a:solidFill>
                <a:latin typeface="Arial"/>
              </a:rPr>
              <a:t>Tel: 01523 / 67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9900"/>
                </a:solidFill>
                <a:latin typeface="Arial"/>
              </a:rPr>
              <a:t>Internet: www.doggy_service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5335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9900"/>
                </a:solidFill>
                <a:latin typeface="Braggadocio"/>
              </a:rPr>
              <a:t>Doggy</a:t>
            </a:r>
            <a:br>
              <a:rPr sz="2000"/>
            </a:br>
            <a:r>
              <a:rPr b="0" lang="de-DE" sz="2000" spc="-1" strike="noStrike">
                <a:solidFill>
                  <a:srgbClr val="cc9900"/>
                </a:solidFill>
                <a:latin typeface="Braggadocio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380880"/>
            <a:ext cx="1676520" cy="106704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828800"/>
            <a:ext cx="72392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8T07:55:15Z</dcterms:created>
  <dc:creator>Wolfgang Glasl</dc:creator>
  <dc:description/>
  <dc:language>en-US</dc:language>
  <cp:lastModifiedBy>Wolfgang Glasl</cp:lastModifiedBy>
  <dcterms:modified xsi:type="dcterms:W3CDTF">1999-06-08T09:35:05Z</dcterms:modified>
  <cp:revision>2</cp:revision>
  <dc:subject/>
  <dc:title>Doggy Service</dc:title>
</cp:coreProperties>
</file>