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5574-421D-4473-BF9A-536DDDE9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0805-CABC-44B3-B0CD-334D44B5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B5E1-D0E4-4F40-BD0A-17E7AFEE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E4A4-3CC8-42DE-ABC5-AB9742A6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0205-0A2B-40BE-868C-49067E80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F2A9-D1F6-4741-901C-29221EA5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CB6E-80E1-46AD-A9BE-E2EE7870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E2D9-C3D6-470F-9AA4-7EEB842D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5F13-CA96-4346-829F-CAA17CF3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D313-CB21-4F88-A911-2B9A115D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6D46-FDF7-4F76-A352-A22F2475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17AC-E7CF-4550-8086-9474453E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E96F-8A61-45ED-8483-29B59B53FAA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362320" y="1447920"/>
            <a:ext cx="4267080" cy="426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11480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76720" y="502920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90920" y="4648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057400" y="3809880"/>
            <a:ext cx="83808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81080" y="300996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62320" y="2133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66880" y="167652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352680" y="121932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181480" y="137160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38680" y="167652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1447920"/>
            <a:ext cx="4267080" cy="426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867280" y="213372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5880" y="300996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5880" y="388620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867280" y="434340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81480" y="4952880"/>
            <a:ext cx="83844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152960" y="5181480"/>
            <a:ext cx="83808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5T15:27:27Z</dcterms:created>
  <dc:creator>Wolfgang Glasl</dc:creator>
  <dc:description/>
  <dc:language>en-US</dc:language>
  <cp:lastModifiedBy>Wolfgang Glasl</cp:lastModifiedBy>
  <dcterms:modified xsi:type="dcterms:W3CDTF">2000-06-15T18:39:45Z</dcterms:modified>
  <cp:revision>2</cp:revision>
  <dc:subject/>
  <dc:title>PowerPoint-Präsentation</dc:title>
</cp:coreProperties>
</file>