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EA1E-DA41-46BC-B7C8-F5AF23ED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622-7556-474D-9A4A-454AC8AF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924-B3F0-4BB0-BA91-007AF012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C54-F305-4880-8B9F-FFF7036C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62F55-E158-4866-8487-1EF3A301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78B2B-6EB0-4405-BA86-B466CE81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F2675-A990-4532-A1E4-422188D6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2B79B-74B5-4A59-AD92-6E5B05BB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12EBF-65A9-4CA0-9492-34E5DB1A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FE976-B5C5-4A69-AB02-38B606C6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17675-C87C-45CF-8663-C325B8FD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B1C-4C69-4714-A237-C86D91F3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AF068-FFA8-4AF4-B2F5-F6A286F0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A331B-BC52-441C-89D3-E170B956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38AF6-5D23-4C5D-872E-24E999D1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C7007-E31E-4C76-A9BA-CC681412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16B4F-E37E-4001-AE9F-6AAF0433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53F-9C4C-4C12-9046-17BBB257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E39-09E0-450A-ADE8-A59F25CF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327-ECF3-4FC0-9C52-0A60E1DB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B68-4F4F-464C-9482-889454A8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D10-B1A0-4A32-8BC7-28DD126B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723-4A31-4404-983C-CB62F1C0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1D9-FC3F-46BD-A1C3-87143767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0064-F0D5-414B-BF49-15FC18A3881B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BCC1-D430-4ADE-84B6-D546E74EB767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völkerungsentwicklung in der Bundesrepublik Deutsch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Bevölkerung</a:t>
            </a:r>
            <a:br>
              <a:rPr sz="44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(in Mi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828800"/>
          <a:ext cx="777096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28800"/>
                    <a:ext cx="77709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völkerung nach Altersklass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905120"/>
          <a:ext cx="822816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05120"/>
                    <a:ext cx="8228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08:42:27Z</dcterms:created>
  <dc:creator>Wolfgang Glasl</dc:creator>
  <dc:description/>
  <dc:language>en-US</dc:language>
  <cp:lastModifiedBy>Wolfgang Glasl</cp:lastModifiedBy>
  <dcterms:modified xsi:type="dcterms:W3CDTF">2004-07-05T05:54:00Z</dcterms:modified>
  <cp:revision>8</cp:revision>
  <dc:subject/>
  <dc:title>Bevölkerungsentwicklung in der Bundesrepublik Deutschland</dc:title>
</cp:coreProperties>
</file>