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KAMERA.WAV" ContentType="audio/x-wav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7DD-C732-4166-91AC-4F61C4FB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C78-F39B-4658-B849-2578FA12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BED-F7C0-48F9-822C-71C8CF27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9AD-3155-47AD-8287-4E44F158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B1F-A0C1-42C3-8D10-354365AB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4CF-FED9-4D7F-BFE9-0362E98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E8F-34FD-4542-A5A1-8CDC2B5F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0CB-6350-4D7F-B918-6841BAB1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B9E-FDC3-4D2D-9E75-E494863C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D3B-7D0F-4673-AB61-09BAB28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617-C89E-418F-BCCE-D930AC8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686-2A6B-4D22-A9D8-1BF6CC7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7BEB-C34A-4B23-8B72-7819252BE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AMER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cc9900"/>
                </a:solidFill>
                <a:latin typeface="Bookman Old Style"/>
              </a:rPr>
              <a:t>Doggy</a:t>
            </a:r>
            <a:br>
              <a:rPr sz="7200"/>
            </a:br>
            <a:r>
              <a:rPr b="0" lang="de-DE" sz="7200" spc="-1" strike="noStrike">
                <a:solidFill>
                  <a:srgbClr val="cc9900"/>
                </a:solidFill>
                <a:latin typeface="Bookman Old Style"/>
              </a:rPr>
              <a:t>Serv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360" y="594972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© Carola Mü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907920"/>
            <a:ext cx="5105520" cy="4724640"/>
          </a:xfrm>
          <a:prstGeom prst="ellips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Unser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Einkauf von probiotischem Hundefu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Ausführen zu fest vereinbarten Ter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Fellpflege von ausgebildeten Curling-Spezia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Fitneßtraining mit modernen Gerä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Ganzkörperm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Times New Roman"/>
              </a:rPr>
              <a:t>Ökologische Kotentsor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533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Doggy</a:t>
            </a:r>
            <a:br>
              <a:rPr sz="2000"/>
            </a:b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80880"/>
            <a:ext cx="1676520" cy="106704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Weitere Informationen erhalten Sie be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Doggy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Auf dem Hu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38452 Brunsbüt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Tel: 01523 / 67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9900"/>
                </a:solidFill>
                <a:latin typeface="Arial"/>
              </a:rPr>
              <a:t>Internet: www.doggy_service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533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Doggy</a:t>
            </a:r>
            <a:br>
              <a:rPr sz="2000"/>
            </a:br>
            <a:r>
              <a:rPr b="0" lang="de-DE" sz="2000" spc="-1" strike="noStrike">
                <a:solidFill>
                  <a:srgbClr val="cc9900"/>
                </a:solidFill>
                <a:latin typeface="Braggadocio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80880"/>
            <a:ext cx="1676520" cy="106704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828800"/>
            <a:ext cx="72392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07:55:15Z</dcterms:created>
  <dc:creator>Wolfgang Glasl</dc:creator>
  <dc:description/>
  <dc:language>en-US</dc:language>
  <cp:lastModifiedBy>Wolfgang Glasl</cp:lastModifiedBy>
  <dcterms:modified xsi:type="dcterms:W3CDTF">2004-07-03T20:27:32Z</dcterms:modified>
  <cp:revision>3</cp:revision>
  <dc:subject/>
  <dc:title>Doggy Service</dc:title>
</cp:coreProperties>
</file>