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993-126C-46F5-B69F-95314074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FD6-F790-4528-9D5C-91CAD457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185-FA8C-4B03-B4DA-6D490C63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E50-0513-425B-BA4A-830FF527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C5CC-BD8C-4CA5-A6D4-DA8C34F1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300-FEBC-490A-836C-ABF7A5C3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73C-1CB2-4FC9-BD91-C3EE348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F45B-BC88-4880-967E-CB4B694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A8B3-4637-4C99-AE2F-4A4948F7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FBB6-98FB-4E99-9964-718FA63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9C9-8ECA-4A26-8316-E8AF132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C7B-4471-453E-8097-142D64D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8E4-6A65-48FB-BBD6-02156FE0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5010-03BA-44DF-A0AA-97B7471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442-1192-4ADA-9DE8-8487CBF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99D-02AD-4642-8032-D3D3642E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F2F-957B-407D-8C30-CB936C77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5F0-9B6F-4D02-9A5D-52092695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DF6-F6D5-4998-A28E-FED4EA8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E5E-EE96-422D-8653-3827124A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17E-C7A5-44C6-A3D4-A3A060D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47A-5FB4-49FE-A2F5-B0AAE77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FBC-36AA-4610-9B92-6414F46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4D6-8E43-4C0B-9B7E-BB26BF9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4888-BC9B-40D7-8F3D-E09270F2B7AC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019-2328-4606-B2CC-A311359770A0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etriebliches Vorschlagwe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76240" y="2133720"/>
          <a:ext cx="758196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2133720"/>
                    <a:ext cx="758196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xcel-Tabel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2205000"/>
          <a:ext cx="813600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1360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03:07:32Z</dcterms:created>
  <dc:creator>Wolfgang Glasl</dc:creator>
  <dc:description/>
  <dc:language>en-US</dc:language>
  <cp:lastModifiedBy>Wolfgang Glasl</cp:lastModifiedBy>
  <dcterms:modified xsi:type="dcterms:W3CDTF">2004-07-03T21:48:47Z</dcterms:modified>
  <cp:revision>2</cp:revision>
  <dc:subject/>
  <dc:title>Betriebliches Vorschlagwesen</dc:title>
</cp:coreProperties>
</file>