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142560"/>
            <a:ext cx="2971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861-20D9-4EFB-892B-132E919ACD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tergrundbild: C:\Programme\MS Publisher\ClipArt\pub40\6003.gif oder 9192.g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ift: Forte, 44, ge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urfsvorlage: Ba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urfsvorlage Ba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und Glie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g +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lie mit Tabelle (3 Spalten, 10 Zei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mbolleiste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b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erste Zeile grün eingefär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.600 markieren, Farbeimer, Fülleffekte zweifarbig von rot  bis gelb, aus der Mitte (ganz un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= Excel-Tabelle (Einfügen Objekt MS Excel-Diagram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mschalten in Excel auf Tabelle, dort die Wert eint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ubbäum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delhölze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äuche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Objekt MS-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bjekt doppelklic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Externe 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belle Waldbestand.xls anklic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rg + M – Organigra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570200"/>
            <a:ext cx="5029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füge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lips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B9C-A3E9-4434-A800-72AE851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877-0C47-45B9-87CD-E4A0A8C8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EE9-716D-4831-8B92-85A66B2A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A00-0602-45DB-96A0-9D50168D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782-3080-4A5A-B339-3D05FFE8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AE43-D307-4376-972D-DC300AA3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0FE-B7A0-4283-9E20-89C76676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A8ED-D31F-44D0-9254-2B781B56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234-C784-4EA9-A3B9-F4BCA8F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C179-DAAB-4905-B5FE-7A73A1F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9A27-A0F9-43B8-8DE5-4CAE17C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D72-EADD-4A58-BC8A-C6AB2586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F705-D416-4D94-9202-4F3059B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F040-C9A7-4E06-BA79-132D63F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68EB-663D-4035-9915-FC7C9ACE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F2A-24AD-4D86-896D-DBA65C44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A7D-9950-4262-A7B8-574C87C0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968-A5D5-4E38-BCAB-52BC0A95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642-117C-46FA-80B8-299A50D8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C10-12E3-44FB-BDBB-A338F2B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94A-AA9A-4345-A14B-0C60CA6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575-9F01-4DB8-BB5D-F6AEC0C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30E-77C0-4475-B5A3-885A88D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529-E88C-4DFE-9336-2DE6D71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958-C59B-4573-A9D5-3C2AAFE888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01028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Forte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01C5-EE4D-4754-908A-926F0B1903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21573000">
            <a:off x="685800" y="168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Forte"/>
              </a:rPr>
              <a:t>Feld, Wald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Forte"/>
              </a:rPr>
              <a:t>und Wies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560" y="4419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andschaftspflege, Natur- und Umweltschu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Aufgaben und Ziele der Naturfreunde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er Naturgüter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ung von Naturgütern, sowie der Vielfalt von Natur und Land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der Arten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alt seltener Tier- und Pflanzenarten und ihrer Lebensgemein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utz von Biotopen und Ökosystemen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beugung und Verminderung von Umweltschä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74678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Forte"/>
              </a:rPr>
              <a:t>Bestand wildlebender Pflanzen und Tierarten</a:t>
            </a:r>
            <a:endParaRPr b="0" lang="en-US" sz="28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7570800" cy="5175360"/>
        </p:xfrm>
        <a:graphic>
          <a:graphicData uri="http://schemas.openxmlformats.org/drawingml/2006/table">
            <a:tbl>
              <a:tblPr/>
              <a:tblGrid>
                <a:gridCol w="2541600"/>
                <a:gridCol w="251460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nzah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on gefährd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äuget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ög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tili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i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rbel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33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ütenpflan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osfl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ßpil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Bestand an Pflanzen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7600" y="2068560"/>
          <a:ext cx="7278480" cy="41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068560"/>
                    <a:ext cx="72784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291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Waldbestand in Deutschland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295280"/>
          <a:ext cx="72388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2388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Forte"/>
              </a:rPr>
              <a:t>Unsere Organisation</a:t>
            </a:r>
            <a:endParaRPr b="0" lang="en-US" sz="4400" spc="-1" strike="noStrike">
              <a:solidFill>
                <a:srgbClr val="003300"/>
              </a:solidFill>
              <a:latin typeface="Forte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96880" y="1981080"/>
          <a:ext cx="6807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981080"/>
                    <a:ext cx="680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253368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62520" y="2438280"/>
            <a:ext cx="1468440" cy="149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3429000" cy="296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52880" y="914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6600"/>
                </a:solidFill>
                <a:latin typeface="Times New Roman"/>
              </a:rPr>
              <a:t>Auf Wiederseh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11:43:54Z</dcterms:created>
  <dc:creator>Wolfgang Glasl</dc:creator>
  <dc:description/>
  <dc:language>en-US</dc:language>
  <cp:lastModifiedBy>Wolfgang Glasl</cp:lastModifiedBy>
  <dcterms:modified xsi:type="dcterms:W3CDTF">2004-07-05T04:59:40Z</dcterms:modified>
  <cp:revision>17</cp:revision>
  <dc:subject/>
  <dc:title>Feld, Wald und Wiese</dc:title>
</cp:coreProperties>
</file>