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8375" cy="9604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60F-5C39-428C-AE85-85D1EB13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044E-C51A-4A48-9F4D-D39673B2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E31-3E8D-42B7-8388-408A1A26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3BC7-4903-46B2-BCE1-E73322DF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412-671C-4908-84E7-F01AC011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EDE3-4A59-43A9-BF0C-DB4E1115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C9E-E71C-4AC1-9457-FC086DA7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252-E707-4511-AD76-D1E3369B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B46-A88B-44A8-95DF-4EDBD060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51AD-30F9-4076-9054-AEA1CDCC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6A75-01A4-4751-931B-BA58513E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213-CD04-4693-A58C-815E0C11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A080-5BC1-41DA-96D3-EBEE554C47C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6000" spc="-1" strike="noStrike">
                <a:solidFill>
                  <a:srgbClr val="ffcc00"/>
                </a:solidFill>
                <a:latin typeface="Times New Roman"/>
              </a:rPr>
              <a:t>PowerPoint</a:t>
            </a:r>
            <a:r>
              <a:rPr b="0" i="1" lang="de-DE" sz="6000" spc="-1" strike="noStrike" baseline="30000">
                <a:solidFill>
                  <a:srgbClr val="ffcc00"/>
                </a:solidFill>
                <a:latin typeface="Times New Roman"/>
              </a:rPr>
              <a:t>X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00360" y="393372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© Wolfgang Glasl, Dozent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80"/>
                            </p:stCondLst>
                            <p:childTnLst>
                              <p:par>
                                <p:cTn id="18" nodeType="afterEffect" fill="hold" presetClass="exit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3.5714483261108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PowerPoint</a:t>
            </a:r>
            <a:r>
              <a:rPr b="0" lang="de-DE" sz="4400" spc="-1" strike="noStrike" baseline="30000">
                <a:solidFill>
                  <a:srgbClr val="ffcc00"/>
                </a:solidFill>
                <a:latin typeface="Times New Roman"/>
              </a:rPr>
              <a:t>X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5640" y="227628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66"/>
                </a:solidFill>
                <a:latin typeface="Times New Roman"/>
              </a:rPr>
              <a:t>Verbesserte Animationseff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66"/>
                </a:solidFill>
                <a:latin typeface="Times New Roman"/>
              </a:rPr>
              <a:t>Vorgefertigte Animationsschemas für Fol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66"/>
                </a:solidFill>
                <a:latin typeface="Times New Roman"/>
              </a:rPr>
              <a:t>Verbesserte Organigramme und Diagrammty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66"/>
                </a:solidFill>
                <a:latin typeface="Times New Roman"/>
              </a:rPr>
              <a:t>Mehrere Entwurfsvorlagen pro Präsentation</a:t>
            </a: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341360"/>
            <a:ext cx="7993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557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ff66"/>
                </a:solidFill>
                <a:latin typeface="Times New Roman"/>
              </a:rPr>
              <a:t>Innovat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3T14:08:45Z</dcterms:created>
  <dc:creator>Wolfgang Glasl</dc:creator>
  <dc:description/>
  <dc:language>en-US</dc:language>
  <cp:lastModifiedBy>Wolfgang Glasl</cp:lastModifiedBy>
  <dcterms:modified xsi:type="dcterms:W3CDTF">2004-07-03T16:33:02Z</dcterms:modified>
  <cp:revision>4</cp:revision>
  <dc:subject/>
  <dc:title>PowerPointXP</dc:title>
</cp:coreProperties>
</file>